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1E0-8044-4937-9CA5-557DC5DA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798-7423-4BF2-B3DB-C21671C0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425-FF4A-4C1B-B010-B83D7BBE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BF3-F064-462B-A31A-16799FB1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5AB-E650-41C1-A6AB-CAC7661B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1B8-CFB3-4C06-BD1C-FD458D78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925-9FA2-4540-88F0-783823B3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94B-3CAC-4D24-8DB9-CC4C382A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D0C-AE77-4281-AF0F-FD0AC206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802-399D-4B9D-A163-5FD4ECC7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18F-0CFD-4397-8C8A-3D2196E1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455-E6C9-4B4D-9D3E-76CFF0DE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4F35-D171-4C25-9C61-17CF04B97BA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17440" y="1125360"/>
            <a:ext cx="8675640" cy="53280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554360" y="3357720"/>
            <a:ext cx="42706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س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عبادة ظاهراً وباطنأ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دعاء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3429000"/>
            <a:ext cx="4270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أمر بالفحش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تخاذ الشيطان اولياء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489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23920" y="1700280"/>
            <a:ext cx="86914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محمود : ما كان موافق للكتا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تقليد المذموم : ما كان مخالف للكت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1170000" y="1052640"/>
            <a:ext cx="7745400" cy="63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3568680" y="2747880"/>
            <a:ext cx="529596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5"/>
          <a:stretch/>
        </p:blipFill>
        <p:spPr>
          <a:xfrm>
            <a:off x="2273400" y="4538520"/>
            <a:ext cx="6627600" cy="54612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500280"/>
            <a:ext cx="8691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ما عملوا من أسباب الغوا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5300640"/>
            <a:ext cx="8691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كما أنشأكم أول مرة يبعثكم أحياء فترجعون إليه للحس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"/>
          <a:stretch/>
        </p:blipFill>
        <p:spPr>
          <a:xfrm>
            <a:off x="250920" y="1765440"/>
            <a:ext cx="86421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7920"/>
            <a:ext cx="915336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8840" y="1752480"/>
            <a:ext cx="8604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3760" y="907920"/>
            <a:ext cx="90964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0" y="776160"/>
            <a:ext cx="9132840" cy="9241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987640" y="1052640"/>
            <a:ext cx="4376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وط قبول العمل الصال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7328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8685000" cy="35002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5086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د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59116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68360" y="5951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اهم الله في الدني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68360" y="63831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طاعوا الشياطين فيما يخالف ما شرعه الله تعالى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دلائل الجه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حتجاج بفعل الآباء وتقليدهم في الباط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كمال حكمته تعال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يأمر عباده بالفحش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أمر ال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عدل في العبادات والمعامل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أمر عباده بالفحشاء  ويأمر بالعدل في العبادات والمعاملا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26960" y="3452760"/>
            <a:ext cx="8429760" cy="5716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أوامر الرباني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 ورحمة وتحقق سعادة الدنيا وفلاح الآخ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تقبل العبادة إلا بشرط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6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27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8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6443640" y="5540400"/>
            <a:ext cx="24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ته للكتاب وال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419040" y="5611680"/>
            <a:ext cx="163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خلاصه 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ضلال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طاعة الشيطان والإصغاء إلى وساوس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لق العباد وجعل من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 والكاف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الكفار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تقربون إلى الله بالباطل ويحسبون أنهم على هد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4067280" y="1197000"/>
            <a:ext cx="4724280" cy="5587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260280" y="1916280"/>
            <a:ext cx="8607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إنسان مخير وم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هو مختار، له إرادة، وله مشيئة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كن هذه الأشياء التي تقع منه لا تقع إلا بعد سبق القدر من الله ب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